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729-26CF-42F5-8FC4-A2A6F6AF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2C7-4886-4B11-9FE8-616C611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9BF-85C6-496C-9522-914F878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5C5-B83F-4689-B808-CD847B3A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7E6F-6A5C-40F9-BB9E-643F0AF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725C-47B3-47EC-B09E-072ADD6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4796-2F88-4DE3-AF6D-82F80D0A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6F0D-7897-44B1-9F54-C54A719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368E-949E-40E5-A61B-54EEC67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525-966A-403D-AF2B-51EBC54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DD76-FCB3-4707-AB43-314A69B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F4F-2400-4A8D-895C-1BAB5BD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0614-3118-42CF-A56B-F895D3E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0B05-40A1-4CDD-9AD4-8F74C441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461-6D1F-47B3-857A-71B5E08C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68D-D9C7-4F8B-B09E-5339347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36CB-1413-4091-8AC2-C034F0DA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4937-72AD-443E-ABCA-BC3DC063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27B9-33D2-4C98-80F7-A5ADEAEE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7E85-A48E-4529-A838-6BBF5B76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EE75-2EB3-4524-A64B-07A1F945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3CB1-02F6-4590-84F2-AFC796C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A08-39BF-42C9-A74F-41EBF83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4EB3-C22B-4F4B-A8A9-B96A092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B515-7749-4F6C-9EEE-206DD8D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BE5E-513D-4012-ACAB-7A7DDA6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D402-D1C4-4DD0-8B98-C70436F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2E6D-37DF-4894-8C6B-9D1DA49B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DA26-7789-4178-A007-7ECC11B7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7792-8450-4FD3-AFEB-3FA40F4F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CF6A-B585-4C60-BB77-040B332E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9D52-5FD4-4B91-886B-6628F2CC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503D-E342-4408-888F-D3AEC4C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F59-7EED-46B3-879D-65835F5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5AB4-BD0D-4CEC-BC08-693A914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8CDE-D53A-4905-A293-C2CCEEB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EB60-9295-4FFA-B542-A2EE983B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E400-661E-4304-903A-0C3969F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F61D-3487-4F52-8D52-A0DE005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E1F77-1A20-41B0-912E-FF8FE3C1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9185-54A8-4C77-A85E-545E593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5B5A-D030-469A-B83E-89E24989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DDAE-EE2E-4AFC-B67C-871F7CC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6EDF-D00E-41CD-AD0F-9E82FF0D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E4B-10F7-45A1-BFFC-0FA13201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97C5-4B4F-40BA-9419-340EE5A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6360D-6376-476C-91A1-438E71C4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9F99-4A01-43AF-9262-2996684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EB41-7349-48F5-9AE7-135DD9E1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C078E-DFD0-448A-9AD6-2B5FCB12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43D5-EB6E-4F2C-BFE8-21596FF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1504-C344-4257-B5FC-F3D8781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254E-15D6-495C-B9A5-8449FED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B923-F09C-4166-9EC0-FA05975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3615-F49C-48D3-85BE-F9C8728A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EDB-692A-473C-BCB7-7A75694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3E342-7FEE-4D8B-AFBD-C6D7581A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FE7-B9F3-4E9F-A845-6391373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CF8-8D3A-49F1-92D0-52C1279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597-B61D-41A9-A589-D005FDC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a2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b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9292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01DB-7F79-4A64-A11A-8E67BDB3E3FB}" type="slidenum">
              <a:rPr b="0" lang="pl-PL" sz="1400" spc="-1" strike="noStrike">
                <a:solidFill>
                  <a:srgbClr val="29292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Łącznik prosty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a2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b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9292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4790-25BD-4C2F-ABFC-7D7EFF76E3A5}" type="slidenum">
              <a:rPr b="0" lang="pl-PL" sz="1400" spc="-1" strike="noStrike">
                <a:solidFill>
                  <a:srgbClr val="29292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a2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b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9292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099-0B0D-4CB8-8454-10FC56E72993}" type="slidenum">
              <a:rPr b="0" lang="pl-PL" sz="1400" spc="-1" strike="noStrike">
                <a:solidFill>
                  <a:srgbClr val="29292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Łącznik prosty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a2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b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9292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B692-E3BC-431D-8097-FCB872E2B739}" type="slidenum">
              <a:rPr b="0" lang="pl-PL" sz="1400" spc="-1" strike="noStrike">
                <a:solidFill>
                  <a:srgbClr val="29292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Łącznik prosty 7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00a2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00b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9292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9292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3D4-4ED3-4F64-9E4D-674969B5FAFC}" type="slidenum">
              <a:rPr b="0" lang="pl-PL" sz="1400" spc="-1" strike="noStrike">
                <a:solidFill>
                  <a:srgbClr val="29292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857320"/>
            <a:ext cx="6572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Calibri"/>
              </a:rPr>
              <a:t>MIXED LOGIT</a:t>
            </a:r>
            <a:br>
              <a:rPr sz="2900"/>
            </a:br>
            <a:endParaRPr b="0" lang="en-US" sz="2900" spc="-1" strike="noStrike">
              <a:solidFill>
                <a:srgbClr val="29292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Calibri"/>
              </a:rPr>
              <a:t>Modelowanie – rozszerzenia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Wielomianowy model logitowy – proble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Bardzo restrykcyjne założenia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łąd losowy iid =&gt; alternatywy i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blemy w symulacjach (nierealistyczne wynik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korelacji pomiędzy alternatywami i wybor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możliwości uwzględnienia nieobserwowalnej heterogeniczności preferen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Dokładniejsze, bardziej zaawansowane model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Lepsze dopasowanie modelu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Dokładniejsze (realistyczne) prognozowanie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Identyfikacja poszczególnych grup konsumentów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dentyfikacja nisz rynk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pasowanie produktów do preferencji grup konsument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Calibri"/>
              </a:rPr>
              <a:t>Random parameters logit (RPL)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Model parametrów losowy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Najbardziej elastyczny model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Inne parametry funkcji użyteczności dla każdego konsumenta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Możliwa identyfikacja głównych grup konsumentów (zmienne objaśniające)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007a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292929"/>
                </a:solidFill>
                <a:latin typeface="Calibri"/>
              </a:rPr>
              <a:t>Pozwala z powodzeniem uniknąć problemów z MNL</a:t>
            </a:r>
            <a:endParaRPr b="0" lang="en-US" sz="2300" spc="-1" strike="noStrike">
              <a:solidFill>
                <a:srgbClr val="292929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alistyczne przewidywania, symulac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499"/>
              </a:spcBef>
              <a:buClr>
                <a:srgbClr val="008e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acowanie efektów dla poszczególnych gr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Calibri"/>
              </a:rPr>
              <a:t>Model parametrów losowych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719440" cy="64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2876400" cy="99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4096080" cy="895320"/>
          </a:xfrm>
          <a:prstGeom prst="rect">
            <a:avLst/>
          </a:prstGeom>
          <a:ln w="0">
            <a:noFill/>
          </a:ln>
        </p:spPr>
      </p:pic>
      <p:sp>
        <p:nvSpPr>
          <p:cNvPr id="217" name="pole tekstowe 6"/>
          <p:cNvSpPr/>
          <p:nvPr/>
        </p:nvSpPr>
        <p:spPr>
          <a:xfrm>
            <a:off x="1002240" y="4724280"/>
            <a:ext cx="72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ksimum                              względem b 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Otrzymujemy średnią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chylenie standardowe oszacowanego parametru los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4"/>
          <a:stretch/>
        </p:blipFill>
        <p:spPr>
          <a:xfrm>
            <a:off x="2268360" y="4724280"/>
            <a:ext cx="17431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Calibri"/>
              </a:rPr>
              <a:t>Panelowa struktura danych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Jeden respondent dokonuje kilu sytuacji wybo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66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Zakładamy, że parametry (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b i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dla danej osoby są stał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4824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Calibri"/>
              </a:rPr>
              <a:t>Prawdopodobieństwo sekwencji wyborów warunkowo (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  <a:ea typeface="Arial"/>
              </a:rPr>
              <a:t>b i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σ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  <a:ea typeface="Arial"/>
              </a:rPr>
              <a:t>)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608720" cy="3013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44640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45:42Z</dcterms:created>
  <dc:creator>Mikołaj Czajkowski</dc:creator>
  <dc:description/>
  <dc:language>en-US</dc:language>
  <cp:lastModifiedBy>Marek</cp:lastModifiedBy>
  <dcterms:modified xsi:type="dcterms:W3CDTF">2012-01-13T06:32:31Z</dcterms:modified>
  <cp:revision>53</cp:revision>
  <dc:subject/>
  <dc:title>Slajd 1</dc:title>
</cp:coreProperties>
</file>