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FFE-1B43-4933-85D6-7DAD2001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D1C-209D-4246-A911-02B44C34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345-9040-4C7F-B997-F82B1C55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730-6489-4DF1-876A-E1ADE8AD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3907-0362-4F47-A5FE-A722B25D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5C1D-FE6D-4209-8289-E72357D2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38D4-016F-4BB4-973F-1A3A5922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E5B5-B2DD-42C7-9BDC-52C94A6A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6DB3-5FCE-44E8-B456-DD8A9C65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3360-3866-44A2-931E-C66BDF02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1E23-9C6D-40B8-9DF4-DC83A1D6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134-49A5-4120-AEB2-3E9FACBE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FA3A-3480-49D6-AD21-92DA116E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4A60-8E43-453F-B836-959BBD12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56FB-4E22-45B9-A04F-3570BF3C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164E-9A4C-4D5A-97E9-8ABF0980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BA9A-6D73-472D-80FB-AE19CDEA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04D25-302C-4887-86BA-8F9B7EDC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0C0A0-1799-4B57-8230-396AEBD3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31375-53BB-434F-8207-93FFB333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0A633-C73E-4976-AEF8-D02EEF52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5BBEF-B96A-4CFF-9414-3721279F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022-4536-43FC-AD04-DE44EC1F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E6F79-3886-47E6-9B23-1882311A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FA1D4-EE99-4129-9144-41CD22D5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2CD4E-D453-4F54-B83F-D0494302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431C3-40FD-4DA3-8E12-82614D93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62856-C4AB-41C7-A8B9-5C5C5839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F637C-81F9-4782-8F0F-C5494E5C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FFB66-25EC-42E2-A1EF-2477CFCD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0850BD-18B9-4BA2-95F0-5B582E97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55FA86-0E9B-4165-BBD9-17970186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0D3B3C-9A89-4A68-8284-43CF4DFC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898-88F8-4F3D-AB6F-BAA7E31A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AB3E6B-4BA6-4E33-AC45-10B36E0D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9A3185-29A4-444C-8BC1-0265DFA6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A95B9-7024-43A4-9E2D-27CE3206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2DA783-8879-497C-ACAB-B86BCB32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F98836-C525-469E-BEC6-DB217299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49080-72DC-4BFA-AC72-73AF737D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27EC2-89A2-457E-B1C6-7C9AC652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2FF2D4-1326-4474-B6E5-D3527C20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00D34-863E-4587-9198-2D0CE2C5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E5F54-9A7E-43F9-A687-0C9DBEBB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218-4959-4286-BB5A-1ECE38E3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26EBCC-F1B7-4751-97E0-60044643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C90650-E146-4627-82CA-868D28C3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469D8-5AC5-4773-9122-C4ECCC94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A73B5-2B0B-4E1F-B9B4-6138314C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67907-8089-4C57-B592-A54C952F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4E57C-150F-4485-909C-62A6040F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A49C5-3C19-4A9B-B579-F4A6F36C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811631-DCF1-4EB3-BFE0-CDE94E6B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12C40A-47AE-46C4-B017-0E27CAD7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EBDEA-F866-4A46-A15E-6BA70659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153-3B6B-4763-9767-855EC1E0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D8BA90-299A-49BC-A5A9-3A839986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086E6-F33E-4D10-8BE9-94127021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B28EF-71DF-4E12-AC3A-D3B9AB21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2C46E-82BA-4C13-B53B-34859EC3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FA0E9-858A-449D-86A4-4D25DCA1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7CC1C-DACD-4FBB-9319-5C11B3A2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75FB4-68DA-4EBB-81A0-9E14DA2D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2966D-0CE4-455D-89F2-F2741A45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55B64-1B2E-4A49-8CBA-ABE3CD65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75AFF-A5DA-4E7D-BCBE-1D1F21C2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448-7F40-4A9B-B480-56962F17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B0D7B-FFC3-440A-B682-B8E0075D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C7917-14BD-4C58-B42B-EE2EB91B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A1DC5-FEA2-49E4-8E5F-01E5514E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912B51-CA66-4D3E-B02B-8F23C143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DAFDA-0B95-4F17-BD32-3F1F6F5A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557750-5EDC-45F2-BC1E-829DE13F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28105-647F-4DDD-A88E-7F3D131D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90B0F-19F4-480B-AA3A-F9F2A213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AE8C49-8F94-4E1A-9AE9-065F2183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17A879-2B6C-4CAE-BDD1-972B45B1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784-00AB-4524-908F-BCE81CB3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BE3C6C-C205-4946-A84E-DFCC49D9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EC2DF4-68CA-4228-860E-52972934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5F3A78-7961-4CF0-87B4-EA12747E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D187A-BBC1-47DA-AACB-694AB582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833E5-9682-45D4-9A8A-491A4A63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71DCE-9E5B-4691-A46F-219132D2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8B7F5-2167-4BCC-971E-F1AAFA25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913B9-1DCE-4ACF-BA9A-F292E516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5677A-EE4B-4ADD-858F-6207443B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425CF-8AD2-4938-A85D-10F749E4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6C2-4728-458A-9614-FE96B182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D6D8A-9A1F-4C8F-9A21-2E03E63F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238B8-B010-4AC4-87A9-40AA420D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10789-1C7C-4418-8624-FC958EB4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F13F3-C401-4B7C-B704-8DEA6931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9F790-1AC6-4848-94C9-7B5617CF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A04E3-621F-42BD-A854-35AD2393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D5C46-2638-42F0-8F54-5ECFDA38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DBD1-08C8-4545-8670-40C00C0E5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rostokąt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rostokąt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rostokąt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E0F7-7D9C-433F-AB17-27DA29BD20A9}" type="slidenum"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rostokąt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rostokąt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rostokąt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74C0-C730-42AA-BF46-0BFCF59381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AE68-3E32-4887-8DA4-D49D81637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0C7F-BAD7-4545-9EC7-A7E5BA2AF0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4CC1-8F42-4D1E-A818-185A2137AD02}" type="slidenum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rostokąt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rostokąt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rostokąt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stokąt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CDA4-239C-4715-9701-F1C6ADC666B4}" type="slidenum"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rostokąt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rostokąt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rostokąt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8AB3-C58E-4035-BFCF-570257909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31640" y="4723920"/>
            <a:ext cx="7507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20190b"/>
                </a:solidFill>
                <a:latin typeface="Arial"/>
                <a:ea typeface="Arial"/>
              </a:rPr>
              <a:t>BINARNY MODEL LOGITOWY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775f55"/>
                </a:solidFill>
                <a:latin typeface="Tw Cen MT"/>
              </a:rPr>
              <a:t>Logit jeszcze raz – książka K. Train (intro)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5124240" cy="13716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666720" y="3735360"/>
            <a:ext cx="3914640" cy="457200"/>
          </a:xfrm>
          <a:prstGeom prst="rect">
            <a:avLst/>
          </a:prstGeom>
          <a:ln w="0">
            <a:noFill/>
          </a:ln>
        </p:spPr>
      </p:pic>
      <p:sp>
        <p:nvSpPr>
          <p:cNvPr id="398" name="pole tekstowe 3"/>
          <p:cNvSpPr/>
          <p:nvPr/>
        </p:nvSpPr>
        <p:spPr>
          <a:xfrm>
            <a:off x="691560" y="3139920"/>
            <a:ext cx="20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del binar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5" descr=""/>
          <p:cNvPicPr/>
          <p:nvPr/>
        </p:nvPicPr>
        <p:blipFill>
          <a:blip r:embed="rId3"/>
          <a:stretch/>
        </p:blipFill>
        <p:spPr>
          <a:xfrm>
            <a:off x="703440" y="4437000"/>
            <a:ext cx="3000240" cy="4190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"/>
          <p:cNvPicPr/>
          <p:nvPr/>
        </p:nvPicPr>
        <p:blipFill>
          <a:blip r:embed="rId4"/>
          <a:stretch/>
        </p:blipFill>
        <p:spPr>
          <a:xfrm>
            <a:off x="677880" y="5084640"/>
            <a:ext cx="25812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Logit c.d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5986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Estymacja – model logitow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5616360" cy="1593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5472000" cy="13780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"/>
          <p:cNvPicPr/>
          <p:nvPr/>
        </p:nvPicPr>
        <p:blipFill>
          <a:blip r:embed="rId3"/>
          <a:stretch/>
        </p:blipFill>
        <p:spPr>
          <a:xfrm>
            <a:off x="900000" y="4653000"/>
            <a:ext cx="2752920" cy="285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"/>
          <p:cNvPicPr/>
          <p:nvPr/>
        </p:nvPicPr>
        <p:blipFill>
          <a:blip r:embed="rId4"/>
          <a:stretch/>
        </p:blipFill>
        <p:spPr>
          <a:xfrm>
            <a:off x="684360" y="1484280"/>
            <a:ext cx="372096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Ćwiczeni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Oszacować model logitowy, probitow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orównać wynik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Efekty krańcow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Test ilorazu wiarygodnośc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Oszacować WTP i znaleźć błąd standardowy WTP (wykorzystując polecenia WALD i symulacje w excelu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prawdzić czy współczynnik przy WTP zależy od dochodu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rognoza 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w Cen MT"/>
              </a:rPr>
              <a:t>Czy osoby z wyższym dochodem mają wyższą WTP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775f55"/>
                </a:solidFill>
                <a:latin typeface="Tw Cen MT"/>
              </a:rPr>
              <a:t>Liniowy model prawdopodobieństw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4319280" cy="892080"/>
          </a:xfrm>
          <a:prstGeom prst="rect">
            <a:avLst/>
          </a:prstGeom>
          <a:ln w="0">
            <a:noFill/>
          </a:ln>
        </p:spPr>
      </p:pic>
      <p:sp>
        <p:nvSpPr>
          <p:cNvPr id="369" name="pole tekstowe 4"/>
          <p:cNvSpPr/>
          <p:nvPr/>
        </p:nvSpPr>
        <p:spPr>
          <a:xfrm>
            <a:off x="575280" y="2060640"/>
            <a:ext cx="684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 przypadku liniowego modelu prawdopodobieństwa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ystrybuanta ma postać funkcji liniowej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ole tekstowe 5"/>
          <p:cNvSpPr/>
          <p:nvPr/>
        </p:nvSpPr>
        <p:spPr>
          <a:xfrm>
            <a:off x="684360" y="3933720"/>
            <a:ext cx="720720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zacowanie modelu sprowadza się do szacowania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ównania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etodą najmniejszych kwadratów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230508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Problemy z LMP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P spoza zakresu (0,1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Heteroskedastycznoś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4684680" cy="11523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540072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775f55"/>
                </a:solidFill>
                <a:latin typeface="Tw Cen MT"/>
              </a:rPr>
              <a:t>Losowy model użyteczności – model logitow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890280"/>
            <a:ext cx="8229600" cy="57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Użyteczność składa się ze składnika deterministycznego i stochastyczneg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- część stochastyczn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      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- część deterministycz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Osoba wybiera alternatywę o najwyższej użyteczności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8"/>
              <p:cNvSpPr txBox="1"/>
              <p:nvPr/>
            </p:nvSpPr>
            <p:spPr>
              <a:xfrm>
                <a:off x="971640" y="4724280"/>
                <a:ext cx="50450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num>
                              <m:den>
                                <m:r>
                                  <m:t xml:space="preserve">j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9" name="Rectangle 11"/>
          <p:cNvSpPr/>
          <p:nvPr/>
        </p:nvSpPr>
        <p:spPr>
          <a:xfrm>
            <a:off x="0" y="30481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10"/>
              <p:cNvSpPr txBox="1"/>
              <p:nvPr/>
            </p:nvSpPr>
            <p:spPr>
              <a:xfrm>
                <a:off x="971640" y="2781360"/>
                <a:ext cx="3240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2"/>
              <p:cNvSpPr txBox="1"/>
              <p:nvPr/>
            </p:nvSpPr>
            <p:spPr>
              <a:xfrm>
                <a:off x="900000" y="3860640"/>
                <a:ext cx="647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4"/>
              <p:cNvSpPr txBox="1"/>
              <p:nvPr/>
            </p:nvSpPr>
            <p:spPr>
              <a:xfrm>
                <a:off x="900000" y="3429000"/>
                <a:ext cx="647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775f55"/>
                </a:solidFill>
                <a:latin typeface="Tw Cen MT"/>
              </a:rPr>
              <a:t>Binarny model logitow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Osoba może podjąć jakieś działanie lub ni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 = V +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 =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X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  <a:ea typeface="Arial"/>
              </a:rPr>
              <a:t>deterministyczna część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ε </a:t>
            </a:r>
            <a:r>
              <a:rPr b="0" i="1" lang="pl-PL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i="1" lang="pl-PL" sz="24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0" i="1" lang="pl-PL" sz="24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  <a:ea typeface="Arial"/>
              </a:rPr>
              <a:t>nieobserwowana część stochastyczna</a:t>
            </a:r>
            <a:r>
              <a:rPr b="0" i="1" lang="pl-PL" sz="24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  <a:ea typeface="Arial"/>
              </a:rPr>
              <a:t> szacowane MN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Osoba podejmuje działanie jeżeli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&gt;0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X +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ε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&gt;0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ε &gt; -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β‘X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Rozkład logistyczny jest symetryczn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ε &gt; -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X )=P(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ε &lt;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β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  <a:ea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X 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Object 7"/>
          <p:cNvGraphicFramePr/>
          <p:nvPr/>
        </p:nvGraphicFramePr>
        <p:xfrm>
          <a:off x="0" y="1484280"/>
          <a:ext cx="8964720" cy="528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8964720" cy="52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PDF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CDF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0" y="1557360"/>
            <a:ext cx="889308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775f55"/>
                </a:solidFill>
                <a:latin typeface="Tw Cen MT"/>
              </a:rPr>
              <a:t>Prawdopodobieństwo podjęcia działania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Symetria rozkładu logistyczneg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PDF i CDF rozkładu logistycznego: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PDF:  f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) = e </a:t>
            </a:r>
            <a:r>
              <a:rPr b="0" lang="pl-PL" sz="28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r>
              <a:rPr b="0" lang="en-GB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/(1 + e </a:t>
            </a:r>
            <a:r>
              <a:rPr b="0" lang="pl-PL" sz="28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r>
              <a:rPr b="0" lang="en-GB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)</a:t>
            </a:r>
            <a:r>
              <a:rPr b="0" lang="pl-PL" sz="28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CDF:  F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) = 1/(1 + e </a:t>
            </a:r>
            <a:r>
              <a:rPr b="0" lang="pl-PL" sz="28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r>
              <a:rPr b="0" lang="en-GB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P(y=1)=1/(1 + e </a:t>
            </a:r>
            <a:r>
              <a:rPr b="0" lang="pl-PL" sz="28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r>
              <a:rPr b="0" lang="en-GB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w Cen MT"/>
              </a:rPr>
              <a:t>'x</a:t>
            </a: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539640" y="2187720"/>
                <a:ext cx="7272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dε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β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dε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'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5f55"/>
                </a:solidFill>
                <a:latin typeface="Tw Cen MT"/>
              </a:rPr>
              <a:t>Logit vs probi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1165320" y="2071800"/>
            <a:ext cx="743904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7:27:05Z</dcterms:created>
  <dc:creator>Marek</dc:creator>
  <dc:description/>
  <dc:language>en-US</dc:language>
  <cp:lastModifiedBy>Marek</cp:lastModifiedBy>
  <dcterms:modified xsi:type="dcterms:W3CDTF">2012-10-19T07:18:20Z</dcterms:modified>
  <cp:revision>22</cp:revision>
  <dc:subject/>
  <dc:title>Binarny model logitowy</dc:title>
</cp:coreProperties>
</file>